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7073-F10A-4D69-9A3D-81AF12C7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ADA-4FDE-4A2F-BBB3-26EE832E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5B1-FA87-4311-8AB2-6D88D7A9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CCE-0B62-4A41-B7D8-4D2D1FD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92F-1690-4396-8BDB-E9556DE7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F39-AB71-49CE-8D8B-3DDA10FF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A44-795D-4B99-BDF0-19A37D7A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CD4-D34A-4A02-9857-5F6502D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2F5-0D6E-49C7-9727-70885BA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038-BE2A-4901-BB27-63D5014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713-AE42-4101-B416-D70A658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52C-6B12-4789-9C56-EFC5520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F9E-BF15-4047-AA13-1E8268F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353-9F62-4B25-8A34-5AB26E6D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D11-68E6-4466-8921-0D886F19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.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29456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819520" y="396252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35268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45720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52578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819520" y="5943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Como estas? 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840600" y="64008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0.png"/>
          <p:cNvPicPr/>
          <p:nvPr/>
        </p:nvPicPr>
        <p:blipFill>
          <a:blip r:embed="rId8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0.jpeg"/>
          <p:cNvPicPr/>
          <p:nvPr/>
        </p:nvPicPr>
        <p:blipFill>
          <a:blip r:embed="rId9"/>
          <a:stretch/>
        </p:blipFill>
        <p:spPr>
          <a:xfrm>
            <a:off x="685800" y="5410080"/>
            <a:ext cx="6094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5:26Z</dcterms:created>
  <dc:creator>FriscoISD</dc:creator>
  <dc:description/>
  <dc:language>en-US</dc:language>
  <cp:lastModifiedBy>User</cp:lastModifiedBy>
  <dcterms:modified xsi:type="dcterms:W3CDTF">2012-12-04T14:06:25Z</dcterms:modified>
  <cp:revision>103</cp:revision>
  <dc:subject/>
  <dc:title>Profile</dc:title>
</cp:coreProperties>
</file>